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DA8-D1D6-4FAD-86D6-F795F8A7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2C0-D03C-4AF4-9118-D2D3D25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3EA-FADB-46B5-95CE-32BEEB21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AC2-D100-4F49-A443-48123D4F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6B94-45BF-44A3-AE15-E7DAC8F6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AB5-84FF-4273-89C9-F4D294F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F3C-10F2-4404-8F39-38AA41E6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1C42-41B5-47BE-9739-BE7C7C22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AA4C-F756-408E-A1B3-DE56A32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1A4-83F7-40D5-9E9B-A0A3E604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47D-5FEF-4EB5-88E1-380B36F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025-6DC0-4692-BF55-4DD57B9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1F1-CFA6-45C3-A7D0-D8E8A68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30D-D5A2-410D-9FCF-E44AE72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2EE-FAD4-4C54-93F2-0B86796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D52E-A7F3-4F04-8FFD-61222053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380-14C8-4FD3-9ACC-17CB8673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CF8-130B-4E01-BB5D-26A116C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ED2-A8D0-437F-B2D8-237386E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E92-A78E-4398-8717-F069D87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710-7320-4788-B45F-101BA99D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0FB-6928-423F-B7D4-D21782FE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8A7-9C4F-420B-8279-77EB0DC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2B9-931A-4B36-A82D-0704CDD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583-6CC0-46BB-AD09-D785333E82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3EC7-CA56-4C28-9EB5-9347320F8A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7IM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15 de septiembre del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, ¿Prefieres jugar baloncesto, estudiar español o practicar matemá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compañero habla sobre tu deporte favo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ed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lar ingles en la clase de españ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e hor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erm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e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chas cl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deport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ugar deportes en la clase de educación fís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er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 tarea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8098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, yo no puedo hablar ingles en la clase de españ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70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sotros dormimos a las…..de la no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7242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tengo much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0552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Yo juego…… </a:t>
            </a:r>
            <a:r>
              <a:rPr b="0" i="1" lang="es-ES_tradnl" sz="2400" spc="-1" strike="noStrike">
                <a:solidFill>
                  <a:srgbClr val="008000"/>
                </a:solidFill>
                <a:latin typeface="Times New Roman"/>
              </a:rPr>
              <a:t>(No juego depor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562720"/>
            <a:ext cx="693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vamos a jugar deportes en la clase de educación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3244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 queremos tareas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pas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143000"/>
          <a:ext cx="8763120" cy="4902120"/>
        </p:xfrm>
        <a:graphic>
          <a:graphicData uri="http://schemas.openxmlformats.org/drawingml/2006/table">
            <a:tbl>
              <a:tblPr/>
              <a:tblGrid>
                <a:gridCol w="2971800"/>
                <a:gridCol w="1989000"/>
                <a:gridCol w="1611360"/>
                <a:gridCol w="21909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uestion   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      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er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09480" y="11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Verb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Pro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219320"/>
            <a:ext cx="14479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In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l ver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Reg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362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u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rm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362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048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657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191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876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611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440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Q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2438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8308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*Crazy verb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19680" y="33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6960" y="4662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8000" y="510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99520" y="54864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33720" y="59436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16440" y="6338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ablar 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Vender    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ub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350532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6800" y="19051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0480" y="275760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62000" y="33670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8040" y="42814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4680" y="4876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0840" y="56386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9360" y="19051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240" y="25909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88080" y="3367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90360" y="4114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0" y="489096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5080" y="56530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0760" y="19191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7080" y="260496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46680" y="33670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02600" y="41292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76560" y="49672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71080" y="565308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3366cc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P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pronou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sotr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3276720"/>
          <a:ext cx="6324480" cy="3622680"/>
        </p:xfrm>
        <a:graphic>
          <a:graphicData uri="http://schemas.openxmlformats.org/drawingml/2006/table">
            <a:tbl>
              <a:tblPr/>
              <a:tblGrid>
                <a:gridCol w="3276720"/>
                <a:gridCol w="30477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66cc"/>
                          </a:solidFill>
                          <a:uFillTx/>
                          <a:latin typeface="Times New Roman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95288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943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0" i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6415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920" y="1722600"/>
            <a:ext cx="906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Perd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eferi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se verbs are often followed by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FIN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640" y="5043600"/>
            <a:ext cx="43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9760" y="565308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9280" y="50436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68080" y="57150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e 2 oraciones originales con cada verb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1 singular, 1 plural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comparte la respuesta con un </a:t>
            </a:r>
            <a:r>
              <a:rPr b="0" lang="es-SV" sz="3200" spc="-1" strike="noStrike">
                <a:solidFill>
                  <a:srgbClr val="000000"/>
                </a:solidFill>
                <a:latin typeface="Times New Roman"/>
              </a:rPr>
              <a:t>compañe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ezar (to be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ir (to pre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er (to want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mir (to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area #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y completa la hoja distrib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Dennis</cp:lastModifiedBy>
  <dcterms:modified xsi:type="dcterms:W3CDTF">2011-09-14T21:40:55Z</dcterms:modified>
  <cp:revision>11</cp:revision>
  <dc:subject/>
  <dc:title>Me llamo __________            Clase 7IM La fecha es el 14 de septiembre del 2011</dc:title>
</cp:coreProperties>
</file>